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435-38E5-4AED-8B18-335D76C2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AF0-16CB-45D8-8860-FA39443F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100-2FDE-4C89-8F7C-7EC19C78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24B-FC65-4BFA-95B2-2E1311C3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5B6B-EA41-4760-ABE2-4DD4B2D5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886B-888B-436A-B884-1EE80961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6DA2-181F-4C38-810E-EF8BB91E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D092-5318-4953-B424-BBF553BF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E4C9-766E-477F-938D-4EBDB3E3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539C-20A7-457A-B4D3-697B52B8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D8C0-438A-4947-9AFA-BC372AD4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4C1-E4A2-4CE6-8822-26B14AF0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CD12-348F-49B5-9BC0-5A89E733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4668-7EBA-4549-AB5E-7690C69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D7EB-494F-4383-8CA0-B5C6300A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C380-C3B2-46AD-AE5F-DF232CF4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3C8A-9A42-4DC0-98CC-BBB533A5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486-E3DC-4FCF-ABD5-6BD45448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BEC-EC55-47D9-8B33-05704A9C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61C-3786-4C55-BAF9-FAEA5528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209-91EE-4F98-9CFC-2992F540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B0F-482E-4253-8147-8A479BCD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561-8E98-491A-95EB-64D99701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D11-166B-4E55-803E-B908B367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5218-E281-4BEB-8128-88163189CE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CA9D-05C1-4A1A-9D0C-B9DBBA70214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9153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b7"/>
                </a:solidFill>
                <a:latin typeface="Arial Black"/>
              </a:rPr>
              <a:t>ЛИЧНАЯ ГИГИЕНА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41428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АОУ «Лицей № 62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34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 должна бы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зрач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ть запа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ть освежающий вк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ее благоприятная температура воды для питья – 7-12 граду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жилищ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1050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ще должно б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статочно просторным и сух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рошо освещенным солнечным све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ст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лжно проветрив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i"/>
          <p:cNvPicPr/>
          <p:nvPr/>
        </p:nvPicPr>
        <p:blipFill>
          <a:blip r:embed="rId1"/>
          <a:stretch/>
        </p:blipFill>
        <p:spPr>
          <a:xfrm>
            <a:off x="4500720" y="1700280"/>
            <a:ext cx="424800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осле таких советов, думаю что вы всегда будете здоровыми, чистыми и опрятными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Понятие гигие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324000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гиена в переводе с греческого – целебный, приносящий здоров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2177916_f520"/>
          <p:cNvPicPr/>
          <p:nvPr/>
        </p:nvPicPr>
        <p:blipFill>
          <a:blip r:embed="rId1"/>
          <a:stretch/>
        </p:blipFill>
        <p:spPr>
          <a:xfrm>
            <a:off x="4356000" y="1557360"/>
            <a:ext cx="4608720" cy="51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%d0%93%d0%b8%d0%b3%d0%b8%d0%b5%d0%bd%d0%b0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кож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поддержания чистоты кожи ежедневно следует принимать душ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тье - основной вид ухода за кожей, при котором с ее поверхности удаляются пыль, микробы, пот, различные загряз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1" descr="i"/>
          <p:cNvPicPr/>
          <p:nvPr/>
        </p:nvPicPr>
        <p:blipFill>
          <a:blip r:embed="rId1"/>
          <a:stretch/>
        </p:blipFill>
        <p:spPr>
          <a:xfrm>
            <a:off x="5192640" y="2398680"/>
            <a:ext cx="3640320" cy="267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льза ба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11" descr="parnaya"/>
          <p:cNvPicPr/>
          <p:nvPr/>
        </p:nvPicPr>
        <p:blipFill>
          <a:blip r:embed="rId1"/>
          <a:stretch/>
        </p:blipFill>
        <p:spPr>
          <a:xfrm>
            <a:off x="179280" y="1557360"/>
            <a:ext cx="4537080" cy="475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x_d3ab18d4"/>
          <p:cNvPicPr/>
          <p:nvPr/>
        </p:nvPicPr>
        <p:blipFill>
          <a:blip r:embed="rId2"/>
          <a:stretch/>
        </p:blipFill>
        <p:spPr>
          <a:xfrm>
            <a:off x="4932360" y="1484280"/>
            <a:ext cx="396072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i_113"/>
          <p:cNvPicPr/>
          <p:nvPr/>
        </p:nvPicPr>
        <p:blipFill>
          <a:blip r:embed="rId3"/>
          <a:stretch/>
        </p:blipFill>
        <p:spPr>
          <a:xfrm>
            <a:off x="5219640" y="407664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е забудьте и о зуб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15" descr="0_705d6_a7bd8d8f_orig"/>
          <p:cNvPicPr/>
          <p:nvPr/>
        </p:nvPicPr>
        <p:blipFill>
          <a:blip r:embed="rId1"/>
          <a:stretch/>
        </p:blipFill>
        <p:spPr>
          <a:xfrm>
            <a:off x="971640" y="1413000"/>
            <a:ext cx="7416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одеж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417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я одежды – защита организма от неблагоприятных внешних условий и воз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на соответствовать времени года, характеру работы, не затруднять движения и дых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9" descr="Рисунок1"/>
          <p:cNvPicPr/>
          <p:nvPr/>
        </p:nvPicPr>
        <p:blipFill>
          <a:blip r:embed="rId1"/>
          <a:stretch/>
        </p:blipFill>
        <p:spPr>
          <a:xfrm>
            <a:off x="4643280" y="1268280"/>
            <a:ext cx="4032360" cy="254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post-1291457207"/>
          <p:cNvPicPr/>
          <p:nvPr/>
        </p:nvPicPr>
        <p:blipFill>
          <a:blip r:embed="rId2"/>
          <a:stretch/>
        </p:blipFill>
        <p:spPr>
          <a:xfrm>
            <a:off x="5148360" y="3933720"/>
            <a:ext cx="324000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п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авильное хранение продуктов приводит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х порче, 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требление таких продуктов может вызвать пищевые отравления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екционные заболе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кружающей нас среде находится множество микроорганизмов, которые пр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агоприятных условиях быстро размножаются. Некоторые 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х способны вырабатывать сильные яды (токсины).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енным микроорганизмам относятся плесневые грибы, дрожжи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те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Рацион должен быт разнообразны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Рисунок 8" descr="{2C4AFA75-0736-47BB-A59F-92FDC51620EC}"/>
          <p:cNvPicPr/>
          <p:nvPr/>
        </p:nvPicPr>
        <p:blipFill>
          <a:blip r:embed="rId1"/>
          <a:stretch/>
        </p:blipFill>
        <p:spPr>
          <a:xfrm>
            <a:off x="1116000" y="1844640"/>
            <a:ext cx="7056360" cy="489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8:53:30Z</dcterms:created>
  <dc:creator>user</dc:creator>
  <dc:description/>
  <dc:language>en-US</dc:language>
  <cp:lastModifiedBy>Учитель</cp:lastModifiedBy>
  <dcterms:modified xsi:type="dcterms:W3CDTF">2013-05-06T16:48:15Z</dcterms:modified>
  <cp:revision>4</cp:revision>
  <dc:subject/>
  <dc:title>ЛИЧНАЯ ГИГИЕНА</dc:title>
</cp:coreProperties>
</file>